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25.jpeg" ContentType="image/jpeg"/>
  <Override PartName="/ppt/media/image45.jpeg" ContentType="image/jpeg"/>
  <Override PartName="/ppt/media/image9.jpeg" ContentType="image/jpeg"/>
  <Override PartName="/ppt/media/image11.jpeg" ContentType="image/jpeg"/>
  <Override PartName="/ppt/media/image30.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48.jpeg" ContentType="image/jpeg"/>
  <Override PartName="/ppt/media/image43.jpeg" ContentType="image/jpeg"/>
  <Override PartName="/ppt/media/image31.jpeg" ContentType="image/jpeg"/>
  <Override PartName="/ppt/media/image4.jpeg" ContentType="image/jpeg"/>
  <Override PartName="/ppt/media/image41.png" ContentType="image/png"/>
  <Override PartName="/ppt/media/image44.png" ContentType="image/png"/>
  <Override PartName="/ppt/media/image40.jpeg" ContentType="image/jpeg"/>
  <Override PartName="/ppt/media/image13.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26.jpeg" ContentType="image/jpeg"/>
  <Override PartName="/ppt/media/image4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 id="281" r:id="rId63"/>
    <p:sldId id="282" r:id="rId64"/>
    <p:sldId id="283" r:id="rId65"/>
    <p:sldId id="284" r:id="rId66"/>
    <p:sldId id="285" r:id="rId67"/>
    <p:sldId id="286" r:id="rId68"/>
    <p:sldId id="287" r:id="rId69"/>
    <p:sldId id="288" r:id="rId70"/>
    <p:sldId id="289" r:id="rId71"/>
    <p:sldId id="290" r:id="rId72"/>
    <p:sldId id="291"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slide" Target="slides/slide26.xml"/><Relationship Id="rId64" Type="http://schemas.openxmlformats.org/officeDocument/2006/relationships/slide" Target="slides/slide27.xml"/><Relationship Id="rId65" Type="http://schemas.openxmlformats.org/officeDocument/2006/relationships/slide" Target="slides/slide28.xml"/><Relationship Id="rId66" Type="http://schemas.openxmlformats.org/officeDocument/2006/relationships/slide" Target="slides/slide29.xml"/><Relationship Id="rId67" Type="http://schemas.openxmlformats.org/officeDocument/2006/relationships/slide" Target="slides/slide30.xml"/><Relationship Id="rId68" Type="http://schemas.openxmlformats.org/officeDocument/2006/relationships/slide" Target="slides/slide31.xml"/><Relationship Id="rId69" Type="http://schemas.openxmlformats.org/officeDocument/2006/relationships/slide" Target="slides/slide32.xml"/><Relationship Id="rId70" Type="http://schemas.openxmlformats.org/officeDocument/2006/relationships/slide" Target="slides/slide33.xml"/><Relationship Id="rId71" Type="http://schemas.openxmlformats.org/officeDocument/2006/relationships/slide" Target="slides/slide34.xml"/><Relationship Id="rId72" Type="http://schemas.openxmlformats.org/officeDocument/2006/relationships/slide" Target="slides/slide35.xml"/><Relationship Id="rId73" Type="http://schemas.openxmlformats.org/officeDocument/2006/relationships/slide" Target="slides/slide36.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3442E-71BB-48DD-8426-53B31C3D3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6CAAA-341A-4B2F-8159-2C044712E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E4E8FC-F971-4771-8258-30DBF9AA2E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95D79-031A-409E-9BC0-08208C4585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F0852-FFBC-47D0-B21F-FD1F66D65A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8C96E7-F322-4FFD-9DE9-A011E6805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75D80-CFD1-45D6-A684-A02410F9B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4FFEE7-C616-4243-B5DE-9BA0290682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4261DD-576A-4F1E-91D0-DA0460ED1A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0416B-3767-4304-8033-F87911EED3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61A034-5C14-4D34-87E5-D7CCA10979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1C5B7A-9B4E-4B49-B1F9-A5600408E7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37692-04E8-4C52-9020-B0A06863E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EC0951-6992-4660-AAFA-DB0FDCD258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931353-E8D9-4F46-889E-4E45549397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7BA986-91A7-469C-8A22-850FA86871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A62C4D-8E31-40B0-849B-7EE5B3589B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A9F6B9-7F2E-47C4-9FBF-EFD80887B9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E34D75-1480-4315-8628-6DD029165F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7AC0B3-0D94-4452-A5D4-A4DA8B2330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98AEA8-4C9C-44D7-8A23-A410377295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74B03C-474B-4F0C-86B1-246296FE5A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4DCE59-BAA5-493B-8A9E-EE53F1088A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8B8CB-012A-4205-8198-41D477A9F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3FE9E14-CE08-42B0-A1B4-B91327AC80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093266-3A7C-42A5-B4BB-8C8F0D2B6D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213C6C-353E-4778-898E-E6B72E6FA3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62A687-FC32-4C18-A8A6-F76696D3A7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625389-337A-4BB0-8198-2B757E532B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3AAF3E-BFD1-472D-97EE-2086CAE4E9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FC9175-9B46-488A-892E-74E70D47A4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CF7C6C-B6D2-43B9-8DA4-8C48F280D3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F6F9C0-3A16-4B88-B7D0-8AF52C7C1D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EBC490-B0E1-415D-AE65-DC9F0A446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60FC5-11D0-487A-840A-962F19EEB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4B554-769E-4E3A-8D06-F0923E89AA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35C920-C937-4BA8-8589-C456E992F86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98E8DD-31D3-4912-AEAF-62EE39D98F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637FEE-F63E-431F-B8E4-85CA235E85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6F9731-39B2-4316-A5D0-8E52CDD7BA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4E7AC5-0D54-4C49-8363-A201370147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F9474F-1B40-4886-91F4-6C736BE267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FDCE51-42DC-4DFA-9052-BD6C3BFF0D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DD1848-9C23-4081-B078-511016FAAD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59E997-2B71-4CEB-AF1C-9B0085DE14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B3CA4-EBC9-4AED-B126-62CEFD7E1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B151E9-97E1-4D64-9A84-56D911CBAD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6CBD57-AD85-4752-AB2C-1ACDAF77D0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EA85AB-67E5-4DC8-930B-8EBFC8EFD8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756565-90BE-41B0-89C3-936F7DC3D2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DD24737-4166-4556-860E-F29D7EB51B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F38162-58F0-45D3-825E-5254FA48BB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A5F233-67AF-40AF-B3CA-6F1F40543B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C73EF4-B4B5-4B0C-B1E1-5BAE6ABC0B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124515-B5E1-492A-905A-19D6A80109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98EEE8-66A5-43A0-B5CD-2AF3CBDA65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C2D1F-C69F-4644-8DA7-E572ED3EE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7C52EB-673B-453D-87BB-36E491EB96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6E8476-23F6-4FC8-833C-B8513D9ACE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8EA6C9-8019-478C-AEBB-C581FCB6D6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5B8DBB-1386-4CFE-933F-ECA0553D36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53DB68-2856-4F18-93CD-0C26976E8F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7ABF82B-5971-4DB9-B588-14D6A0311A7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5AC00BE-BA71-4C80-A44D-D33C19188A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8E63C8B-75A9-40B3-B731-03E0CD7D28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F6F114-A475-416D-97F1-874F1969BEE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07D4FA-32C2-427C-9B0A-3B5E745C18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9C6A4-BDEB-49E1-B429-7E5924848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E5C2A1-158D-40CA-ADDD-5C827E37A0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30BA57-6E63-47D4-9210-0E7871AF78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51B9E4-71C1-413B-B897-0C2F882885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069D5E6-1502-4AB5-A803-7F7659AEFB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965528-B323-4F3D-9365-A7548C5255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F2D73A-4560-4760-8E04-3FD3ECCDAF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8CB103-D086-4E1F-B35F-C7EEDD8504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49115DB-FCA2-4C68-996A-F0E417BBF6D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790FEBD-0E2A-4C63-A646-87FD19A827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3ABB0C7-B44B-46EF-ABF8-A4849D50EA9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F96B8-6EEA-4EEF-8B2A-460C1C5B3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9F33C7-B1E5-4382-8A8D-FD422C7801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EEACD37-502F-4101-92AA-B145CD0E0E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38B2EA-989E-4F9C-B98C-75B4E38406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BC5CF5E-D596-4763-AC6E-A73325C9AC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1D972F1-78A0-413C-A19C-FDCA9CA8C76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1C9B54-4AA4-411D-A118-53575311D7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D8E76B-D6B6-4D93-8EA7-A191849594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77E611-238B-440A-B7A0-EF1C8E5FAC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FA7D33A-C4D1-4B83-AAAD-57832EA24E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3B78500-3925-4AF7-983D-94C513A5503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64577-723F-482D-83E2-B160E9412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CCC8E0E-B0CF-4FFE-ADDC-A16ABB6CB2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339219-DB0B-4A4C-8309-75AE1A39A4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6ACF28B-5EBD-4F90-8043-56A8C1B7C3E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1A1366-5558-4CB7-B3B7-9377A0BEEE1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ADA1A1-D3E1-4C2F-9D15-D4871B4924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166B21F-02F5-4597-9CE7-CC1A9837A1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FF9B8E-663C-4341-8C06-AEADD83235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1AB6CF-9F21-4AE1-ABDA-E6F0605B87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EEDAC4F-C372-476A-830A-139EE08428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AD2A11-E98D-4199-8558-F759762440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2D82B-0062-4B9F-B640-08D73D124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8D93B4-3D73-4101-888D-3BBC884FEA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B9C113-103F-4D94-9A99-EFF1031E06C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236A6BB-4FF1-4C39-99DB-A274F2E1DB5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38AFD9-0CE7-4946-B98A-041CE675E10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872A19-FF46-44D2-9393-31DB996A4E5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AF3CD8B-E412-4DF0-9A11-A3C01A1444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7B81721-F5ED-4239-BCE1-13EE6311B31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19A3B3-C11A-4606-ADF3-8582F9B1C3C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62BF5F-5905-4DDA-A46E-ABCC1472CE7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1A9491-0229-4BC9-95DE-175F72AC66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D596-017C-4ED2-B82A-CC03EB730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7E5BD-6A64-477F-9CF0-AF819B0A0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12AB5E-55C1-412A-ABA4-A27C8E2D0F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24FBB3-8F1B-4A99-B4F1-F084AE50FC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84C939-05E1-4219-8BAF-D8AE695DFC3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41FD73-3889-44B4-922D-2CE2F8AA7E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C459879-A5E6-4E11-A515-E4AF36D85C9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6E3AD0B-DE74-40E8-B2DF-60E70EC4D11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2D98B82-83EB-4D81-951A-9D913DF149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B263A06-05A0-403E-A7DE-3252EE9DA39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E6DD2C5-CB4A-4305-8FEF-8CC178B90E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F6DCEE4-D0A5-4E79-B997-C77A8C04C99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FFEFD-A5A2-483A-B6FF-2723E67D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B0E50CE-71D2-4B0D-BF39-F21605569AF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A65E09D-4248-48C0-96D7-DAA9FC1351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D57A4DB-5990-4CEF-9824-E798EB8776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06A5B7-D334-4C1C-9F55-79B6F0E603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933098A-08E0-41CE-A3FB-BCA72382DF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5B890C4-A19A-45C2-9B6B-9CBD1026452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04F99A1-1D94-4C46-814D-BE4E539E74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3195287-D84A-4E1A-BB31-5EFD02E1B82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4CF2DC-33E4-4AE1-808F-DEC7878A194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F23164B-E6E8-4C67-B1A7-F4C5F76012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2C54F-8A90-49E0-8CC7-734DF9E80D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4FCEAD5-BF99-479C-85C7-594ADC0389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0E7655C-215D-4BCD-AE34-41C445E159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3B4DF43-F812-4E70-B9D4-DAD23BF69E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2F3821D-9BC2-4BAE-A32D-381773B6FE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013FC6-3495-485D-AAB1-2DFED0802C6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2B8B6E-872F-4F0C-A458-FD1661A38AF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0E2E900-8403-4204-A12D-182E0F6051D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581D73D-4848-49CA-A7C8-E7001C506CB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D00259F-00C5-49A5-9A8C-2CE1592A539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F11D27-DC44-44A4-BAEE-188A771781F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BE85F-B800-420B-8D95-F0EB6B61C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64A690-0F54-4D89-BD14-50676E9770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E335E7-0A50-440B-BF98-EFF60E8A3C1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EEED896-070D-4A07-9C7A-0C5124783B7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1306B0-F7C4-4D59-BA61-C2AA62D181A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9B37C1B-B622-4AC5-8E43-FB1D784C082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AE17378-B299-4FAB-BAA1-4F15BC0785F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B83278-3E52-4311-969F-DEA1F0010D3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FC1902-5EE6-46DE-8EC0-6C43A077B7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6A861BA-B2EF-4770-8A4F-73F3E9D864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3B9108E-21C3-47FB-B0A5-EBA61CAACC9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A44CE-670B-4F6D-8D2D-4687B5399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7680727-B0AA-4C1B-9C46-08AC1933D4E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1D82A19-8432-4CEB-BCEB-294114350EC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F1D8848-A35F-4506-BC42-2547CD82AC4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6017D5D-2E13-44BF-B3B9-E0CB11D13EE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2D9DA04-142F-426D-8605-CB15794B67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A9AEE3-B6CE-48CE-AE77-77325386BF9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430CC87-BA93-4507-B8E3-9FC4986792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FFCBA43-2F30-47D5-960B-A6F57607CD5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232D87-8A52-478F-8193-9DC85DCF9A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BD8B414-F048-42CC-B155-C3B97A9782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791B0-4E9E-4219-B73C-712200645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1B8323C-F346-4681-8595-5DE2AB45C9C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0CD9868-F91E-4614-9BA6-58D7031E28F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F9FC3E1-9162-493D-91E0-F897A86536F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1B7C05-35A4-4819-BF23-850A9658724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36B21A-8D15-4306-BAC9-0BAB75F7F79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143BB37-4FC9-4D99-8F02-A288E864702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A1E2610-BF62-4B40-B5F3-BCB6964E517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8236482-8AB5-4746-97F6-DCF458351FE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9364FC3-144E-449F-98B6-02C699FF3FF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D482FC-DE66-488E-B78E-64088F951D5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8564AD-60BB-4BC3-91EE-3554E06AB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DF1F41-39A1-4559-BF06-EA2BEAFB4F3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84A813-4612-472E-B578-A5D397DE69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959488D-12B8-43B8-93C5-2AF3A78341E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B9BB8FF-F5DF-4187-9BE6-B76F578ABC9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01394C0-2E23-405B-B1AE-E64D2A25FA7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F9781B5-6C5A-438F-A304-2D7B7905E76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5E750A-5D53-47E7-ABB5-9589279EDA4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51B7A53-4FF1-4A94-B63E-3FC0371C6D5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7254BD8-6916-4F08-9527-5D800397F0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7FEEEC0-E581-46E5-A762-C04DCDDB1CF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191BC-605F-4382-8526-433A8D74D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AF8778-B84E-41E3-A599-B184BF23145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FDFD2FC-9F30-4E85-9E00-167C4ACC9F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900C286-4BB9-480D-AD7B-170F60523A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14D5683-ECE6-46E7-98FB-C381E90091C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675EC9-15C8-4972-8AE8-A838081A494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DA45591-E42C-418E-97A2-3058423133E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599F8E4-04BB-48BC-B372-C6C09CF2C9F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324DFAF-547C-4FF9-9245-3ED8B742884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F64E94-495F-49B1-A47E-E10F0772812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4F2797F-C900-443B-BB91-04F6C14194F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A4B880-D9A4-4D06-BF3F-275E167583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3D415A5-2C60-4D7B-80E4-79CFE41B334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B94E630-72FF-4B1A-A374-E37C38E7269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C48C8A7-C658-4F01-9A4D-E2172E4EDB6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E083F6-D085-4F6A-B4E6-B7083736D1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C8CE583-B131-4973-A5A9-835CA50FEF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3AD019A-FC41-4FEC-8EB1-774D1D42269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B92AE72-F56D-47DB-BEC2-4DD10B1C093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AD6F749-6FB1-43CD-A04A-6520E53E969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F81C6A3-0613-4266-8DB0-4432E49A467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A2673A6-7463-4656-A113-387B1957CF1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C21F4-B171-403F-AFDD-A94B2479F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2F09033-CF09-4597-80EC-A08D3EB575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C66A7C1-B830-46FF-AE11-2FF0F60CB79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FED08EE-0961-46E4-89CB-B25032773B0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0AB10AC-B432-43CB-B836-1AA29C80C33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CA9F9C6-15FD-4B54-94E6-7537F98494B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E25238-3632-4967-9929-69B3EDF771B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20591F2-F428-4CDE-ACD9-E6F3E875CB6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00EBE7F-E58D-4D46-A157-C78FA4E5837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1914328-6513-43F3-955A-31EE2A3B296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420331C6-E4E7-46FA-82AB-87B0066C698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5516-BC75-45B1-8958-C65530C7E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54DAF-3745-4609-806A-0D04CF692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A132326-9A24-4C62-83DD-62420B932ED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B0078E4-FC8A-4A91-BA2B-1AAE7A6CF0A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328BCB9-3786-4BA8-A7FE-F1435D8EA68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817B012-024B-4266-9F40-CE19F72907D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DE40443-DF03-460A-8E1E-3D07DDB881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6EBACB9-DF96-48B5-ACED-9774A330E2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D67328C-B75C-4C4B-8E46-0DEAF9097C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CE17498-A48E-493C-83D2-62FB8E72BB9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C6063C-1376-4C38-990D-39907D5C998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DA2AB81-702D-4891-8732-5543D39F6F2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62AB0-0FEA-4850-B986-6866405D5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ACB23B2-BDD4-4F05-B1A3-ACA07D474E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3DDFC3B-AC07-4254-95D7-F7EA8AA862A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AFAAAF2-11D4-4273-89C2-937C828E57A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1F056FE-44EF-4D5E-97FF-DD97DB2E7D91}"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CAF11D9-F266-44A3-84D2-47A4321053A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11AFAC0-0E7B-439F-A9CC-781131BFE5D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8FEBBD0-0D60-409B-A6ED-0A5A9C0ED29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AE857304-A0FC-4ED7-BFD7-BBFD8E86E81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9521B27-A286-4895-893D-6EA8B55FE8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A4FE3A1-53CA-45AF-B68E-BF9CB594576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CE3BD-8062-4406-9A60-6F21610E9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E45A901-DE83-4D30-9257-79A299728E3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D458F74-ED83-4E14-8560-94C55B153C1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DB20D03-0111-472B-884C-ADB1D27EB21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C74379D-DB28-4283-8FD9-C7615087C39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BAE1CAB-2B9C-4E73-87C5-7C27B4520D1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B8BACFF-BC2E-440D-AD92-350B8E402F9C}"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A3FA8EF-89BF-400F-8F93-64DAD1DEB49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42161C4-0644-4A0A-8699-0C24DD6585B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F9ECB68-5659-4E38-B16D-6AD811384C8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F0EEE5A-CC22-4CE4-AA0C-3CD93E40514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9E3D1-2141-4EB0-9C9E-17C76BA40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BAE3AD3-B36A-4844-BA39-D165FD9CE22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F9F51AF-12FA-4F77-A5F1-3B0E00E136E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F8050C8-86F3-4144-BFB5-F6FF60AB7A0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9202D63-7A96-43D9-9983-8735AC0BDE7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F30BC7B-0ED2-42C1-86A2-C8D88B89A8B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D6E8199-3C60-4194-96C7-60B44B47EE7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35AF7A3-03D8-4570-A33E-83F4C53E158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00C29F4-22B9-4E69-8F7F-956D1724196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9BDD173-A0AE-4C8C-859B-6F9CF3EFED6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F0C740B-1952-49AF-80A4-029C2621D72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802F4-573C-4E31-A58A-E41A228E7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E0D1CB8-5D79-415F-92D6-F5A7FAA715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DD342A0-FD0C-4155-866A-E5FAA229CE6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C52FF9E-9B7C-47D1-9D60-06F30A15FEE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9265C28-CB08-44E7-9738-678BDE8ADDA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0895231-52BA-40DE-A890-A9F22BFC997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D1D27ED-303F-472C-B3DD-80D8CF39995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AE32E7F-1FD7-46B5-AC20-A887CCF4887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0158ECF-8EA8-4ABB-9AA8-F71F8E74181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8188D9E-DEF3-404B-B997-AA7E59B1B67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149E4D2-D735-48E5-A9EB-A31355E3763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CD47BE-8DCB-4936-999F-0A82C4C5FC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37DF7BC-375F-4D72-8D41-19D0D1A5916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680BDC9-84DE-482E-97FE-03C0A83F199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AD86BEC-8691-47C8-9A10-FB13A85AE80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791DA36-3605-482C-B2B7-6FDF4234073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6724626-6C65-4A05-B282-F05132F324B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B1E9739-6563-49B1-B18D-9ACD7A0E974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233669A-112A-4FF5-B267-F40DB0DC7B6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3EFD67E-7A33-4A01-9C1F-985CCD64FFC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8918474-2E07-4DA2-BBB4-3B8118723E5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58E6F71-6DE0-496A-A9D3-14724AB1C5E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D450B-2D3D-44D0-B70A-6F303A38B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ED53476-583E-4CE1-8515-C098E75C2CB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A8DEEBA-0453-49E8-B068-0488D276B5AE}"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8F92CBA-CD27-41C1-AB58-CFF8CEB3E22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77EAD57-44A4-4971-A478-3E3147E61F9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7EB92FD-F59D-474D-BD09-6ECFD4BC2F3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8743278-68EF-46CD-BBDE-84D829155F4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DD39337-6F5C-45FF-AB1A-7DA804FBA79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9B20992-44B3-45E0-B070-622E4D2F380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FEA161E-BC12-4B65-B8F2-96332FE660E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9752A53-AA5F-4294-A14F-5C84AF3F25A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9B261-43F1-4D52-8AFB-93EAA7BBA6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47B5206-2C36-49CF-BF1A-B1020B7B6076}"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2FE7A6BF-FE90-4F5C-AA9C-57E97FE56DB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451EBA0-90DE-41A1-A842-89C5C67BB9FB}"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FE8C511D-549B-4FB3-A244-4540E2A69E4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6C8EDEA-93A3-4874-95D8-3CB7A5AC42D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A933FAC-AB62-47C5-9A24-CC901C78840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B588DC3-0194-4C95-8423-B64F3560B96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F6EB0D-D6A4-4158-A134-EEF6BA02700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9ADC363-AC1C-40AF-AF78-0840B4100A4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6FD3610-E9BF-4B92-830D-FE300288DF3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ECD90-E82B-44B7-B630-069D54F04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23844EB-BA8D-4B18-B46D-0032097EF12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34CF53D-CD68-472F-B033-86557DE76CB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A78CCA8-7C89-4CD1-BBEA-622B1D3582F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28FFD93-0F22-481A-8C36-13E0E7B2EF7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BA99506-0C93-4CF0-83EB-FD69DA70CEAC}"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F54EFC92-2156-4EA1-B59D-D00FC8C2847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B44B1DF3-6BE4-4199-82A6-8F102B4FD55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4C4FA2D-6EDB-4682-9B85-20D9991738F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4CF77F4-52F2-4A45-A1DE-780BB2DAE53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2278276-728E-48EF-A5F2-36078AF9098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B4B3A-DDE8-460E-A6D0-DA205DE4A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26E460B-3229-4F7A-BADF-252B23EB3BB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9BE3637-407E-415A-937A-C0526CE1A5C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31848AF-9353-4AAB-B831-963C5F00925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66F4558-B293-4F06-A4E2-8EC68425376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B622807-D810-4178-866B-F616E48248AC}"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60621FA-3088-4C9E-92B3-9C5D985202A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ACB06AB-E577-484A-A474-4EA3F6F615C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DB163FC-E1C7-4313-9DFE-614EFB93C39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AEE92AC-7335-4AC0-833C-4452CD65CD7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B4723BC-DC18-4AB4-A573-A74D916369A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0CB4A-1CAD-4399-8679-EFE8DADC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9E5B8-1233-454A-9A65-0D8DE843E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D24A731-7B6C-40AD-B54E-782F1FB352A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4B7CDF2-A11C-4577-8124-C2510277808D}"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6AA28F6-840A-40E4-8AD6-DAC4F1EB424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4DEA383-4B85-4D7B-8585-AC285220BC5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53BA9CB-8566-43FC-A5A3-A7E15A45287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96CE357-6E65-4116-9645-0AC4465F2E8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C9EB50C-80D0-4231-8EF2-37556AD0693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75F3CB8-5840-4175-B560-48E46C95BFAF}"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F21C3C0-9659-4A8F-BFB8-72C8E0C8FF8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3109F1A6-D14A-4633-9B9C-778C347F301F}"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5FC8D-C037-4F73-84C3-EF1DBF1EC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A79F4DA-E700-4E54-B6FB-8C124665C28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B9FDE65-AB42-495D-B49A-FA2403932EC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FC3477E-0C2B-42EA-BFFF-BEF2C24AB2B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CD7A40B-8D99-4923-94B4-6E92E99DCF3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B050BF5-9852-451A-BACE-60C5876D3EA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3DC66A5-477A-4EE0-91E9-117CF7B93E4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E7D3047-FF20-4B50-84F8-04ADF211AD7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5C039CB-25CF-4A91-BECF-B63F4B4603E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B50AFE7-FAB9-48A4-992A-FF4B27F3154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DFA96A6-EF7D-4923-B828-E3060F0D2D8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BEC76-8FB8-4F25-BE2F-9E7B008A7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B717AAD-33E5-4F9B-873F-463155299BC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7A4F3A6-4BE8-40CB-9B22-DE2D99901369}"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FE75CD4-2278-47FA-B659-FB561083769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81E36C6-C30D-4290-A37A-3A316B98DFD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F840BA2-3AB4-489F-A131-41EAFE163CB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AE11BE0-5EC0-4DF0-91D6-B8C7A2442E26}"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18BE582-E569-4170-846E-5F4FFA5DFB9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E37E9CE-A827-4F8D-AD2E-EFD04084E7D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8A6C81E-F593-480D-885E-02B34A6D10D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22106B7-A217-4FBA-9706-3C9AA11C66C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C138E-7361-4156-8E3A-770FDF6AE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0573F54-F7B6-4AFC-98F9-2BFE0A64EA8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2DD40736-4661-43E4-B485-0D56412E48A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5F3EEC8B-06B8-4DEA-AA98-28EA333F0A9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7F4A5-E52B-4F13-8564-2819D424A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0FA33-56FF-46DC-B2F2-DE0409B1D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FF422-E78C-4C08-A48C-D30A9F81B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EAB817-552D-4E9E-B41F-2642A6981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252F20-3041-420F-B668-580041AA7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342D2-F043-473B-9D22-7FBA317A31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571C9-ACA1-41CF-9262-B1BF0E969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D370E-2FB0-4B05-AEA8-6FFF11C0A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3E818-9B0D-488F-9EED-553DD961E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743BE-5084-40B7-A7E9-ABE2044C69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E8611A-BDA2-4F31-9EAF-0EC740102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6A95B-2D2C-4DED-989A-E6ED5721E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B2137-C740-4BD6-9E10-55BFE824C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9B468-8DB0-4761-98C0-8A3D724E4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F7BA5-3188-4FD4-8448-CDE956AE1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EBF18-CCC1-4834-B564-28E190FAD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A2A051-9092-4935-AA88-735025CB18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2764E-11DB-4946-852C-58169E3D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3223E-A369-4975-AF35-31329BA389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A9CBC5-5C7A-4C69-83AC-8CA7C38EEA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8B598-EA32-4D6D-BC7D-74E654BDBF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09B9A-41A4-4777-A4E2-809DF3B0AD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5B471-17C7-473C-9F25-10C0D59068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9A217-6F2C-4FDF-8DF3-0D32A5C46B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C5276-BEDC-49AE-B615-79965DA4D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C8966-048C-4FF7-8D95-283D09BE3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10631-B694-4D38-9422-CF7C6DB38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E97EB-12CE-478B-BE35-207846C29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49E47-E707-445D-A889-7841A787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0B5856-B00A-4C23-A4AD-9106FFFA88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E8C4B0-8E44-44C6-BDB3-1053AEF028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9F6F2D-29B7-4D60-A1F2-B0F5A46BAF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82A7E3-BFB7-4C68-B14F-EF5BA4310E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FA9451-7097-4682-8C25-317C4F9059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98E16-FF81-4878-BF6D-2CD2D13C86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91257-5D67-4F23-8A30-DC3A32FF50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7B506F-2700-457C-952B-95601E3D01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3B1D1-87F9-4376-845A-E787DE18B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F4A1A-C974-44F5-87C1-75AFBBB8B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E6B2-5811-4934-8F4F-DFF38B661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CDAE4-BD8F-48FC-9A7F-7427ACA3A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9A59CB-298B-4D6A-B9DA-302BD11DE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DE5A2F-D6B0-4784-9408-2E085709EA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5A10B7-EF1A-475C-9E5E-BA0719BD8D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70BA52-8FC4-46B3-BC71-D32E922A47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D0C96-81BF-4D49-888C-F3AA932F17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59BA9-C188-4BFA-8EE6-1879EEF9F1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9C802-9C59-4D8A-8492-8E0A9FAE9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14D66-2D8D-41E6-B118-625CF4D88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BF587-F119-402E-9E95-23F325866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63FD-D855-4A35-92CF-E4C370F1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773A1-E1D9-45EB-A077-76DD86257B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BF6671-8FD8-47A7-8627-9C7302E58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57210-8119-4FD9-B36A-2088F5E78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EBF8A6-4A0D-4CB9-9315-5CA9572CC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56269-90AA-4AF4-A21B-57D5361B0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7D43EB-7B76-401D-A825-B99066976D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A2AE98-FB46-4A89-B766-FE7825E6A5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F9CFAA-6C70-4437-9F69-BD50ECAF6D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1BCC2-9898-4318-AA44-E2778582C1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75A12C-7DA1-4276-B8EF-1963A0128A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4.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5.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8.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9.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0.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1.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1.jpeg"/><Relationship Id="rId3" Type="http://schemas.openxmlformats.org/officeDocument/2006/relationships/image" Target="../media/image32.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4F11-BFF5-43D8-AF1C-9200CE0B0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0F5C-F938-4473-81F7-B6909734F06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D086-15F1-49B9-B48B-41B88C8612F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4F88-B4B9-4412-8A4A-8C6856667F1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1861-8220-438C-B654-CAA10CEBC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8659-ABAF-4267-94AC-6065ABA170E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7"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14E6-F51A-4E2C-9F97-569E86F4B72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D6BB-A6F4-4B38-82DC-CA6D00E628F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BE50-21EE-41B7-9F7D-CFA716F016E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00"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F4E7-B313-4E37-B3FF-6B3D4889728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C071-BD27-4C28-9034-39D33F60995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1293840" y="6172200"/>
            <a:ext cx="177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771720" y="6172200"/>
            <a:ext cx="269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161120" y="6172200"/>
            <a:ext cx="1774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4EDE-9840-4F61-8148-08AA96EC85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 name="FormatShape" hidden="1"/>
          <p:cNvSpPr/>
          <p:nvPr/>
        </p:nvSpPr>
        <p:spPr>
          <a:xfrm>
            <a:off x="-754200" y="1625760"/>
            <a:ext cx="1100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3"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9E0A-E653-47A2-B1C1-1C040D2EF39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23" name="PlaceHolder 2"/>
          <p:cNvSpPr>
            <a:spLocks noGrp="1"/>
          </p:cNvSpPr>
          <p:nvPr>
            <p:ph type="body"/>
          </p:nvPr>
        </p:nvSpPr>
        <p:spPr>
          <a:xfrm>
            <a:off x="762120" y="3200400"/>
            <a:ext cx="7619760" cy="2773440"/>
          </a:xfrm>
          <a:prstGeom prst="rect">
            <a:avLst/>
          </a:prstGeom>
          <a:noFill/>
          <a:ln w="0">
            <a:noFill/>
          </a:ln>
        </p:spPr>
        <p:txBody>
          <a:bodyPr lIns="90000" rIns="90000" tIns="46800" bIns="46800" anchor="t">
            <a:normAutofit fontScale="66000"/>
          </a:bodyPr>
          <a:p>
            <a:pPr marL="22608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588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57560" indent="-150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4"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0655-C7F2-4941-A53D-E83B9D776F9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86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865"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A99-4F7B-4232-9204-7796EEC0AA2B}"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
        <p:nvSpPr>
          <p:cNvPr id="868"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07"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8699-637D-4507-A365-18FED5388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Click to edit the title text format</a:t>
            </a:r>
            <a:endParaRPr b="0" lang="en-US" sz="4400" spc="-1" strike="noStrike">
              <a:solidFill>
                <a:srgbClr val="996633"/>
              </a:solidFill>
              <a:latin typeface="Arial"/>
            </a:endParaRPr>
          </a:p>
        </p:txBody>
      </p:sp>
      <p:sp>
        <p:nvSpPr>
          <p:cNvPr id="947"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8"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C664-6B90-4C57-AE23-31BB6E7C591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Click to edit the title text format</a:t>
            </a:r>
            <a:endParaRPr b="0" lang="en-US" sz="4400" spc="-1" strike="noStrike">
              <a:solidFill>
                <a:srgbClr val="996633"/>
              </a:solidFill>
              <a:latin typeface="Arial"/>
            </a:endParaRPr>
          </a:p>
        </p:txBody>
      </p:sp>
      <p:sp>
        <p:nvSpPr>
          <p:cNvPr id="988"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9" name="PlaceHolder 3"/>
          <p:cNvSpPr>
            <a:spLocks noGrp="1"/>
          </p:cNvSpPr>
          <p:nvPr>
            <p:ph type="dt" idx="7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PlaceHolder 4"/>
          <p:cNvSpPr>
            <a:spLocks noGrp="1"/>
          </p:cNvSpPr>
          <p:nvPr>
            <p:ph type="ftr" idx="7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5"/>
          <p:cNvSpPr>
            <a:spLocks noGrp="1"/>
          </p:cNvSpPr>
          <p:nvPr>
            <p:ph type="sldNum" idx="7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1D0B-0BDA-4E59-9648-27022A6DF5D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Arial"/>
              </a:rPr>
              <a:t>Click to edit the title text format</a:t>
            </a:r>
            <a:endParaRPr b="0" lang="en-US" sz="4400" spc="-1" strike="noStrike">
              <a:solidFill>
                <a:srgbClr val="ffcccc"/>
              </a:solidFill>
              <a:latin typeface="Arial"/>
            </a:endParaRPr>
          </a:p>
        </p:txBody>
      </p:sp>
      <p:sp>
        <p:nvSpPr>
          <p:cNvPr id="10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30" name="PlaceHolder 3"/>
          <p:cNvSpPr>
            <a:spLocks noGrp="1"/>
          </p:cNvSpPr>
          <p:nvPr>
            <p:ph type="dt" idx="7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5"/>
          <p:cNvSpPr>
            <a:spLocks noGrp="1"/>
          </p:cNvSpPr>
          <p:nvPr>
            <p:ph type="sldNum" idx="7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076A-B1C0-4C44-9FD8-319EAD796C5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070"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1"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03DF-8153-4DAB-8039-BD2CEEE0313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111"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2" name="PlaceHolder 3"/>
          <p:cNvSpPr>
            <a:spLocks noGrp="1"/>
          </p:cNvSpPr>
          <p:nvPr>
            <p:ph type="dt" idx="8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5"/>
          <p:cNvSpPr>
            <a:spLocks noGrp="1"/>
          </p:cNvSpPr>
          <p:nvPr>
            <p:ph type="sldNum" idx="8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8B44-D248-43D1-989D-18EC646DC3E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3"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37D2-209F-46BF-AE13-9FDEEE55656E}"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AutoShape 7"/>
          <p:cNvSpPr/>
          <p:nvPr/>
        </p:nvSpPr>
        <p:spPr>
          <a:xfrm>
            <a:off x="0" y="0"/>
            <a:ext cx="9144000" cy="6858000"/>
          </a:xfrm>
          <a:prstGeom prst="bevel">
            <a:avLst>
              <a:gd name="adj" fmla="val 4306"/>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ndy"/>
              </a:rPr>
              <a:t>Click to edit the title text format</a:t>
            </a:r>
            <a:endParaRPr b="1" lang="en-US" sz="5400" spc="-1" strike="noStrike">
              <a:solidFill>
                <a:srgbClr val="000000"/>
              </a:solidFill>
              <a:latin typeface="Andy"/>
            </a:endParaRPr>
          </a:p>
        </p:txBody>
      </p:sp>
      <p:sp>
        <p:nvSpPr>
          <p:cNvPr id="85"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Click to edit the outline text format</a:t>
            </a:r>
            <a:endParaRPr b="0" lang="en-US" sz="3200" spc="-1" strike="noStrike">
              <a:solidFill>
                <a:srgbClr val="000000"/>
              </a:solidFill>
              <a:latin typeface="Andy"/>
            </a:endParaRPr>
          </a:p>
          <a:p>
            <a:pPr lvl="1" marL="743040" indent="-28584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cond Outline Level</a:t>
            </a:r>
            <a:endParaRPr b="0" lang="en-US" sz="3200" spc="-1" strike="noStrike">
              <a:solidFill>
                <a:srgbClr val="000000"/>
              </a:solidFill>
              <a:latin typeface="Andy"/>
            </a:endParaRPr>
          </a:p>
          <a:p>
            <a:pPr lvl="2" marL="11430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ird Outline Level</a:t>
            </a:r>
            <a:endParaRPr b="0" lang="en-US" sz="3200" spc="-1" strike="noStrike">
              <a:solidFill>
                <a:srgbClr val="000000"/>
              </a:solidFill>
              <a:latin typeface="Andy"/>
            </a:endParaRPr>
          </a:p>
          <a:p>
            <a:pPr lvl="3" marL="16002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ourth Outline Level</a:t>
            </a:r>
            <a:endParaRPr b="0" lang="en-US" sz="3200" spc="-1" strike="noStrike">
              <a:solidFill>
                <a:srgbClr val="000000"/>
              </a:solidFill>
              <a:latin typeface="Andy"/>
            </a:endParaRPr>
          </a:p>
          <a:p>
            <a:pPr lvl="4"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ifth Outline Level</a:t>
            </a:r>
            <a:endParaRPr b="0" lang="en-US" sz="3200" spc="-1" strike="noStrike">
              <a:solidFill>
                <a:srgbClr val="000000"/>
              </a:solidFill>
              <a:latin typeface="Andy"/>
            </a:endParaRPr>
          </a:p>
          <a:p>
            <a:pPr lvl="5"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ixth Outline Level</a:t>
            </a:r>
            <a:endParaRPr b="0" lang="en-US" sz="3200" spc="-1" strike="noStrike">
              <a:solidFill>
                <a:srgbClr val="000000"/>
              </a:solidFill>
              <a:latin typeface="Andy"/>
            </a:endParaRPr>
          </a:p>
          <a:p>
            <a:pPr lvl="6"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venth Outline Level</a:t>
            </a:r>
            <a:endParaRPr b="0" lang="en-US" sz="3200" spc="-1" strike="noStrike">
              <a:solidFill>
                <a:srgbClr val="000000"/>
              </a:solidFill>
              <a:latin typeface="Andy"/>
            </a:endParaRPr>
          </a:p>
        </p:txBody>
      </p:sp>
      <p:sp>
        <p:nvSpPr>
          <p:cNvPr id="86" name="PlaceHolder 3"/>
          <p:cNvSpPr>
            <a:spLocks noGrp="1"/>
          </p:cNvSpPr>
          <p:nvPr>
            <p:ph type="dt" idx="7"/>
          </p:nvPr>
        </p:nvSpPr>
        <p:spPr>
          <a:xfrm>
            <a:off x="456840" y="6629040"/>
            <a:ext cx="21337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2666880" y="6629040"/>
            <a:ext cx="38102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6290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68CC-CFB4-43A0-AC39-A530B59672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Click to edit the title text format</a:t>
            </a:r>
            <a:endParaRPr b="0" lang="en-US" sz="4400" spc="-1" strike="noStrike">
              <a:solidFill>
                <a:srgbClr val="339966"/>
              </a:solidFill>
              <a:latin typeface="Arial"/>
            </a:endParaRPr>
          </a:p>
        </p:txBody>
      </p:sp>
      <p:sp>
        <p:nvSpPr>
          <p:cNvPr id="1193" name="PlaceHolder 2"/>
          <p:cNvSpPr>
            <a:spLocks noGrp="1"/>
          </p:cNvSpPr>
          <p:nvPr>
            <p:ph type="body"/>
          </p:nvPr>
        </p:nvSpPr>
        <p:spPr>
          <a:xfrm>
            <a:off x="685800" y="1676520"/>
            <a:ext cx="7772400" cy="4449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4" name="PlaceHolder 3"/>
          <p:cNvSpPr>
            <a:spLocks noGrp="1"/>
          </p:cNvSpPr>
          <p:nvPr>
            <p:ph type="dt" idx="8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PlaceHolder 4"/>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PlaceHolder 5"/>
          <p:cNvSpPr>
            <a:spLocks noGrp="1"/>
          </p:cNvSpPr>
          <p:nvPr>
            <p:ph type="sldNum" idx="9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5EDD-7C07-4107-A681-EDDE1E131BC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98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Click to edit the title text format</a:t>
            </a:r>
            <a:endParaRPr b="0" lang="en-US" sz="4400" spc="-1" strike="noStrike">
              <a:solidFill>
                <a:srgbClr val="339966"/>
              </a:solidFill>
              <a:latin typeface="Arial"/>
            </a:endParaRPr>
          </a:p>
        </p:txBody>
      </p:sp>
      <p:sp>
        <p:nvSpPr>
          <p:cNvPr id="1234" name="PlaceHolder 2"/>
          <p:cNvSpPr>
            <a:spLocks noGrp="1"/>
          </p:cNvSpPr>
          <p:nvPr>
            <p:ph type="body"/>
          </p:nvPr>
        </p:nvSpPr>
        <p:spPr>
          <a:xfrm>
            <a:off x="457200" y="3200040"/>
            <a:ext cx="8229600" cy="2925720"/>
          </a:xfrm>
          <a:prstGeom prst="rect">
            <a:avLst/>
          </a:prstGeom>
          <a:noFill/>
          <a:ln w="0">
            <a:noFill/>
          </a:ln>
        </p:spPr>
        <p:txBody>
          <a:bodyPr lIns="90000" rIns="90000" tIns="46800" bIns="46800" anchor="t">
            <a:normAutofit fontScale="70000"/>
          </a:bodyPr>
          <a:p>
            <a:pPr marL="240120" indent="-2401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19840" indent="-1998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9992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1996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40000" indent="-159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5" name="PlaceHolder 3"/>
          <p:cNvSpPr>
            <a:spLocks noGrp="1"/>
          </p:cNvSpPr>
          <p:nvPr>
            <p:ph type="dt" idx="9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PlaceHolder 4"/>
          <p:cNvSpPr>
            <a:spLocks noGrp="1"/>
          </p:cNvSpPr>
          <p:nvPr>
            <p:ph type="ftr" idx="9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PlaceHolder 5"/>
          <p:cNvSpPr>
            <a:spLocks noGrp="1"/>
          </p:cNvSpPr>
          <p:nvPr>
            <p:ph type="sldNum" idx="9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593D-0409-4B5A-97C8-605B6F5163CE}"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4" name="Picture 94" descr="bluered_title"/>
          <p:cNvPicPr/>
          <p:nvPr/>
        </p:nvPicPr>
        <p:blipFill>
          <a:blip r:embed="rId3"/>
          <a:stretch/>
        </p:blipFill>
        <p:spPr>
          <a:xfrm>
            <a:off x="0" y="-1440"/>
            <a:ext cx="9144000" cy="6859440"/>
          </a:xfrm>
          <a:prstGeom prst="rect">
            <a:avLst/>
          </a:prstGeom>
          <a:ln w="0">
            <a:noFill/>
          </a:ln>
        </p:spPr>
      </p:pic>
      <p:sp>
        <p:nvSpPr>
          <p:cNvPr id="1275"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6"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7" name="PlaceHolder 3"/>
          <p:cNvSpPr>
            <a:spLocks noGrp="1"/>
          </p:cNvSpPr>
          <p:nvPr>
            <p:ph type="dt" idx="94"/>
          </p:nvPr>
        </p:nvSpPr>
        <p:spPr>
          <a:xfrm>
            <a:off x="852120" y="6248520"/>
            <a:ext cx="1738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4"/>
          <p:cNvSpPr>
            <a:spLocks noGrp="1"/>
          </p:cNvSpPr>
          <p:nvPr>
            <p:ph type="ftr" idx="95"/>
          </p:nvPr>
        </p:nvSpPr>
        <p:spPr>
          <a:xfrm>
            <a:off x="3378240" y="6248520"/>
            <a:ext cx="264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PlaceHolder 5"/>
          <p:cNvSpPr>
            <a:spLocks noGrp="1"/>
          </p:cNvSpPr>
          <p:nvPr>
            <p:ph type="sldNum" idx="96"/>
          </p:nvPr>
        </p:nvSpPr>
        <p:spPr>
          <a:xfrm>
            <a:off x="6719400" y="6248520"/>
            <a:ext cx="1738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1E02-C109-493A-8785-450AE3E0D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AutoShape 2"/>
          <p:cNvSpPr/>
          <p:nvPr/>
        </p:nvSpPr>
        <p:spPr>
          <a:xfrm>
            <a:off x="0" y="0"/>
            <a:ext cx="9144000" cy="6858000"/>
          </a:xfrm>
          <a:prstGeom prst="bevel">
            <a:avLst>
              <a:gd name="adj" fmla="val 16574"/>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ndy"/>
              </a:rPr>
              <a:t>Click to edit the title text format</a:t>
            </a:r>
            <a:endParaRPr b="1" lang="en-US" sz="5400" spc="-1" strike="noStrike">
              <a:solidFill>
                <a:srgbClr val="000000"/>
              </a:solidFill>
              <a:latin typeface="Andy"/>
            </a:endParaRPr>
          </a:p>
        </p:txBody>
      </p:sp>
      <p:sp>
        <p:nvSpPr>
          <p:cNvPr id="1318"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Click to edit the outline text format</a:t>
            </a:r>
            <a:endParaRPr b="0" lang="en-US" sz="3200" spc="-1" strike="noStrike">
              <a:solidFill>
                <a:srgbClr val="000000"/>
              </a:solidFill>
              <a:latin typeface="Andy"/>
            </a:endParaRPr>
          </a:p>
          <a:p>
            <a:pPr lvl="1" marL="743040" indent="-28584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cond Outline Level</a:t>
            </a:r>
            <a:endParaRPr b="0" lang="en-US" sz="3200" spc="-1" strike="noStrike">
              <a:solidFill>
                <a:srgbClr val="000000"/>
              </a:solidFill>
              <a:latin typeface="Andy"/>
            </a:endParaRPr>
          </a:p>
          <a:p>
            <a:pPr lvl="2" marL="11430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Third Outline Level</a:t>
            </a:r>
            <a:endParaRPr b="0" lang="en-US" sz="3200" spc="-1" strike="noStrike">
              <a:solidFill>
                <a:srgbClr val="000000"/>
              </a:solidFill>
              <a:latin typeface="Andy"/>
            </a:endParaRPr>
          </a:p>
          <a:p>
            <a:pPr lvl="3" marL="16002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ourth Outline Level</a:t>
            </a:r>
            <a:endParaRPr b="0" lang="en-US" sz="3200" spc="-1" strike="noStrike">
              <a:solidFill>
                <a:srgbClr val="000000"/>
              </a:solidFill>
              <a:latin typeface="Andy"/>
            </a:endParaRPr>
          </a:p>
          <a:p>
            <a:pPr lvl="4"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Fifth Outline Level</a:t>
            </a:r>
            <a:endParaRPr b="0" lang="en-US" sz="3200" spc="-1" strike="noStrike">
              <a:solidFill>
                <a:srgbClr val="000000"/>
              </a:solidFill>
              <a:latin typeface="Andy"/>
            </a:endParaRPr>
          </a:p>
          <a:p>
            <a:pPr lvl="5"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ixth Outline Level</a:t>
            </a:r>
            <a:endParaRPr b="0" lang="en-US" sz="3200" spc="-1" strike="noStrike">
              <a:solidFill>
                <a:srgbClr val="000000"/>
              </a:solidFill>
              <a:latin typeface="Andy"/>
            </a:endParaRPr>
          </a:p>
          <a:p>
            <a:pPr lvl="6" marL="2057400" indent="-228600">
              <a:spcBef>
                <a:spcPts val="799"/>
              </a:spcBef>
              <a:buClr>
                <a:srgbClr val="0000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y"/>
              </a:rPr>
              <a:t>Seventh Outline Level</a:t>
            </a:r>
            <a:endParaRPr b="0" lang="en-US" sz="3200" spc="-1" strike="noStrike">
              <a:solidFill>
                <a:srgbClr val="000000"/>
              </a:solidFill>
              <a:latin typeface="Andy"/>
            </a:endParaRPr>
          </a:p>
        </p:txBody>
      </p:sp>
      <p:sp>
        <p:nvSpPr>
          <p:cNvPr id="1319" name="PlaceHolder 3"/>
          <p:cNvSpPr>
            <a:spLocks noGrp="1"/>
          </p:cNvSpPr>
          <p:nvPr>
            <p:ph type="dt" idx="9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PlaceHolder 4"/>
          <p:cNvSpPr>
            <a:spLocks noGrp="1"/>
          </p:cNvSpPr>
          <p:nvPr>
            <p:ph type="ftr" idx="9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5"/>
          <p:cNvSpPr>
            <a:spLocks noGrp="1"/>
          </p:cNvSpPr>
          <p:nvPr>
            <p:ph type="sldNum" idx="9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CEEA-4472-4A28-8370-7662019435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8" name="Picture 94" descr="Green-Grad-Title"/>
          <p:cNvPicPr/>
          <p:nvPr/>
        </p:nvPicPr>
        <p:blipFill>
          <a:blip r:embed="rId3"/>
          <a:stretch/>
        </p:blipFill>
        <p:spPr>
          <a:xfrm>
            <a:off x="1268280" y="1523880"/>
            <a:ext cx="6656400" cy="1905120"/>
          </a:xfrm>
          <a:prstGeom prst="rect">
            <a:avLst/>
          </a:prstGeom>
          <a:ln w="0">
            <a:noFill/>
          </a:ln>
        </p:spPr>
      </p:pic>
      <p:sp>
        <p:nvSpPr>
          <p:cNvPr id="13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360"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361" name="PlaceHolder 3"/>
          <p:cNvSpPr>
            <a:spLocks noGrp="1"/>
          </p:cNvSpPr>
          <p:nvPr>
            <p:ph type="dt" idx="10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PlaceHolder 4"/>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PlaceHolder 5"/>
          <p:cNvSpPr>
            <a:spLocks noGrp="1"/>
          </p:cNvSpPr>
          <p:nvPr>
            <p:ph type="sldNum" idx="10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5F827-82E8-4E79-B990-8FBD8366E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40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403" name="PlaceHolder 3"/>
          <p:cNvSpPr>
            <a:spLocks noGrp="1"/>
          </p:cNvSpPr>
          <p:nvPr>
            <p:ph type="dt" idx="10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PlaceHolder 4"/>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PlaceHolder 5"/>
          <p:cNvSpPr>
            <a:spLocks noGrp="1"/>
          </p:cNvSpPr>
          <p:nvPr>
            <p:ph type="sldNum" idx="10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DCD9-9CDF-4FAB-8B0D-B6AE6A29747F}"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2"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b48"/>
                </a:solidFill>
                <a:latin typeface="Arial"/>
              </a:rPr>
              <a:t>Click to edit the title text format</a:t>
            </a:r>
            <a:endParaRPr b="0" lang="en-US" sz="4400" spc="-1" strike="noStrike">
              <a:solidFill>
                <a:srgbClr val="005b48"/>
              </a:solidFill>
              <a:latin typeface="Arial"/>
            </a:endParaRPr>
          </a:p>
        </p:txBody>
      </p:sp>
      <p:sp>
        <p:nvSpPr>
          <p:cNvPr id="144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Click to edit the outline text format</a:t>
            </a:r>
            <a:endParaRPr b="0" lang="en-US" sz="3200" spc="-1" strike="noStrike">
              <a:solidFill>
                <a:srgbClr val="005b48"/>
              </a:solidFill>
              <a:latin typeface="Arial"/>
            </a:endParaRPr>
          </a:p>
          <a:p>
            <a:pPr lvl="1" marL="639000" indent="-24552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cond Outline Level</a:t>
            </a:r>
            <a:endParaRPr b="0" lang="en-US" sz="3200" spc="-1" strike="noStrike">
              <a:solidFill>
                <a:srgbClr val="005b48"/>
              </a:solidFill>
              <a:latin typeface="Arial"/>
            </a:endParaRPr>
          </a:p>
          <a:p>
            <a:pPr lvl="2" marL="98280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Third Outline Level</a:t>
            </a:r>
            <a:endParaRPr b="0" lang="en-US" sz="3200" spc="-1" strike="noStrike">
              <a:solidFill>
                <a:srgbClr val="005b48"/>
              </a:solidFill>
              <a:latin typeface="Arial"/>
            </a:endParaRPr>
          </a:p>
          <a:p>
            <a:pPr lvl="3" marL="137592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ourth Outline Level</a:t>
            </a:r>
            <a:endParaRPr b="0" lang="en-US" sz="3200" spc="-1" strike="noStrike">
              <a:solidFill>
                <a:srgbClr val="005b48"/>
              </a:solidFill>
              <a:latin typeface="Arial"/>
            </a:endParaRPr>
          </a:p>
          <a:p>
            <a:pPr lvl="4" marL="1769040" indent="-196560">
              <a:spcBef>
                <a:spcPts val="799"/>
              </a:spcBef>
              <a:buClr>
                <a:srgbClr val="005b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Fifth Outline Level</a:t>
            </a:r>
            <a:endParaRPr b="0" lang="en-US" sz="3200" spc="-1" strike="noStrike">
              <a:solidFill>
                <a:srgbClr val="005b48"/>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ixth Outline Level</a:t>
            </a:r>
            <a:endParaRPr b="0" lang="en-US" sz="3200" spc="-1" strike="noStrike">
              <a:solidFill>
                <a:srgbClr val="005b48"/>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Arial"/>
              </a:rPr>
              <a:t>Seventh Outline Level</a:t>
            </a:r>
            <a:endParaRPr b="0" lang="en-US" sz="3200" spc="-1" strike="noStrike">
              <a:solidFill>
                <a:srgbClr val="005b48"/>
              </a:solidFill>
              <a:latin typeface="Arial"/>
            </a:endParaRPr>
          </a:p>
        </p:txBody>
      </p:sp>
      <p:sp>
        <p:nvSpPr>
          <p:cNvPr id="1445" name="PlaceHolder 3"/>
          <p:cNvSpPr>
            <a:spLocks noGrp="1"/>
          </p:cNvSpPr>
          <p:nvPr>
            <p:ph type="dt" idx="10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PlaceHolder 4"/>
          <p:cNvSpPr>
            <a:spLocks noGrp="1"/>
          </p:cNvSpPr>
          <p:nvPr>
            <p:ph type="ftr" idx="10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PlaceHolder 5"/>
          <p:cNvSpPr>
            <a:spLocks noGrp="1"/>
          </p:cNvSpPr>
          <p:nvPr>
            <p:ph type="sldNum" idx="10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b4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16F9-8A2A-4ED6-839A-947775D67C54}" type="slidenum">
              <a:rPr b="0" lang="en-US" sz="1400" spc="-1" strike="noStrike">
                <a:solidFill>
                  <a:srgbClr val="005b4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2EFF-1186-4506-8462-F68E779DE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A442-1847-49C2-ABA9-69EDA9336D9F}"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095B-5005-4857-B8FB-10AEE9A30A4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26A7-6D8D-4866-A685-890218C8DC3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5A60-06B5-457A-A4ED-EAFBF1714F9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3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F915-BE26-4609-B622-AB7AB8F17910}"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slideLayout" Target="../slideLayouts/slideLayout4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409.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6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Chronic Adaptations to Training</a:t>
            </a:r>
            <a:endParaRPr b="0" lang="en-US" sz="4000" spc="-1" strike="noStrike">
              <a:solidFill>
                <a:srgbClr val="000000"/>
              </a:solidFill>
              <a:latin typeface="Times New Roman"/>
            </a:endParaRPr>
          </a:p>
        </p:txBody>
      </p:sp>
      <p:pic>
        <p:nvPicPr>
          <p:cNvPr id="1485" name="Picture 7" descr="melbourne marathon"/>
          <p:cNvPicPr/>
          <p:nvPr/>
        </p:nvPicPr>
        <p:blipFill>
          <a:blip r:embed="rId1"/>
          <a:stretch/>
        </p:blipFill>
        <p:spPr>
          <a:xfrm>
            <a:off x="914400" y="1828800"/>
            <a:ext cx="7377120" cy="48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hanges to blood cholesterol, triglycerides, lipoprotein levels (L.D.L’s and H.D.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lung ventil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max. oxygen uptake (VO2 max)</a:t>
            </a:r>
            <a:endParaRPr b="0" lang="en-US" sz="3200" spc="-1" strike="noStrike">
              <a:solidFill>
                <a:srgbClr val="000000"/>
              </a:solidFill>
              <a:latin typeface="Arial"/>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anaerobic thresh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o respiratory adaptations are best developed through the following metho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tinuous trai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artlek trai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ng interval training</a:t>
            </a:r>
            <a:endParaRPr b="0" lang="en-US" sz="2800" spc="-1" strike="noStrike">
              <a:solidFill>
                <a:srgbClr val="000000"/>
              </a:solidFill>
              <a:latin typeface="Arial"/>
            </a:endParaRPr>
          </a:p>
        </p:txBody>
      </p:sp>
      <p:pic>
        <p:nvPicPr>
          <p:cNvPr id="1508" name="Picture 7" descr="runners"/>
          <p:cNvPicPr/>
          <p:nvPr/>
        </p:nvPicPr>
        <p:blipFill>
          <a:blip r:embed="rId1"/>
          <a:stretch/>
        </p:blipFill>
        <p:spPr>
          <a:xfrm>
            <a:off x="5159520" y="1600200"/>
            <a:ext cx="30160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e easiest way to remember them all is categorize the adaptations into:</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ovascular adap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spiratory adapt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uscle adaptation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n discussing cardiovascular changes we are talking specifically about the heart, blood vessels and bl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RDIAC HYPERTROPH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nlargement of the heart muscle itself. The heart chambers are enlarged, therefore increased ventricular volume – most important is LV size – why?</a:t>
            </a:r>
            <a:endParaRPr b="0" lang="en-US" sz="2800" spc="-1" strike="noStrike">
              <a:solidFill>
                <a:srgbClr val="000000"/>
              </a:solidFill>
              <a:latin typeface="Arial"/>
            </a:endParaRPr>
          </a:p>
        </p:txBody>
      </p:sp>
      <p:pic>
        <p:nvPicPr>
          <p:cNvPr id="1513" name="Picture 7" descr="heart hypertrophy"/>
          <p:cNvPicPr/>
          <p:nvPr/>
        </p:nvPicPr>
        <p:blipFill>
          <a:blip r:embed="rId1"/>
          <a:stretch/>
        </p:blipFill>
        <p:spPr>
          <a:xfrm>
            <a:off x="4648320" y="1741320"/>
            <a:ext cx="4038480" cy="424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CAPILLARISATION OF THE HEART MUSC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ac hypertrophy also leads to an increase in the capillary density and blood flow to the heart muscle itself.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increased supply of blood and O2 allows the heart to beat more strongly and efficiently during both EXERCISE and RE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so decreases chance of heart attac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Century Gothic"/>
              </a:rPr>
              <a:t>The Coronary arteries</a:t>
            </a:r>
            <a:endParaRPr b="0" lang="en-US" sz="4400" spc="-1" strike="noStrike">
              <a:solidFill>
                <a:srgbClr val="1c1c1c"/>
              </a:solidFill>
              <a:latin typeface="Arial"/>
            </a:endParaRPr>
          </a:p>
        </p:txBody>
      </p:sp>
      <p:pic>
        <p:nvPicPr>
          <p:cNvPr id="1517" name="Picture 6" descr="coronary arteries"/>
          <p:cNvPicPr/>
          <p:nvPr/>
        </p:nvPicPr>
        <p:blipFill>
          <a:blip r:embed="rId1"/>
          <a:stretch/>
        </p:blipFill>
        <p:spPr>
          <a:xfrm>
            <a:off x="2895480" y="1752480"/>
            <a:ext cx="3883320" cy="36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CREASED STROKE VOLUM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Stroke volume is the amount of blood pumped per beat.  Through aerobic training SV increases at REST, during SUB MAX. workloads and MAX. workloa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OWER RESTING HEAR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sting heart rate is very useful in determining aerobic fitness.  Generally the lower the resting heart rate the greater the aerobic fitness le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cause the athlete has greater stroke volume the heart does not need to beat as often to pump the same amount of blood around the body</a:t>
            </a:r>
            <a:endParaRPr b="0" lang="en-US" sz="2800" spc="-1" strike="noStrike">
              <a:solidFill>
                <a:srgbClr val="000000"/>
              </a:solidFill>
              <a:latin typeface="Arial"/>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age 252 LIU – Q= SV x HR eq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a:t>
            </a:r>
            <a:endParaRPr b="0" lang="en-US" sz="3600" spc="-1" strike="noStrike">
              <a:solidFill>
                <a:srgbClr val="1c1c1c"/>
              </a:solidFill>
              <a:latin typeface="Arial"/>
            </a:endParaRPr>
          </a:p>
        </p:txBody>
      </p:sp>
      <p:sp>
        <p:nvSpPr>
          <p:cNvPr id="15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OWER HEART RATE DURING SUB MAX WORKL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ared to untrained individuals, athletes have lower heart rates during sub max. workloads.  Mainly due to increased SV.</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heart works more efficiently</a:t>
            </a:r>
            <a:endParaRPr b="0" lang="en-US" sz="2400" spc="-1" strike="noStrike">
              <a:solidFill>
                <a:srgbClr val="000000"/>
              </a:solidFill>
              <a:latin typeface="Arial"/>
            </a:endParaRPr>
          </a:p>
        </p:txBody>
      </p:sp>
      <p:pic>
        <p:nvPicPr>
          <p:cNvPr id="1524" name="Picture 5" descr="heart rate pic"/>
          <p:cNvPicPr/>
          <p:nvPr/>
        </p:nvPicPr>
        <p:blipFill>
          <a:blip r:embed="rId1"/>
          <a:stretch/>
        </p:blipFill>
        <p:spPr>
          <a:xfrm>
            <a:off x="4191120" y="1828800"/>
            <a:ext cx="4728960" cy="364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MPROVED HEART RATE RECOVER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heart rate of an athlete will return to normal (pre exercise levels) quicker than an untrained person.</a:t>
            </a:r>
            <a:endParaRPr b="0" lang="en-US" sz="2800" spc="-1" strike="noStrike">
              <a:solidFill>
                <a:srgbClr val="000000"/>
              </a:solidFill>
              <a:latin typeface="Arial"/>
            </a:endParaRPr>
          </a:p>
        </p:txBody>
      </p:sp>
      <p:pic>
        <p:nvPicPr>
          <p:cNvPr id="1527" name="Picture 5" descr="carotid_pulse"/>
          <p:cNvPicPr/>
          <p:nvPr/>
        </p:nvPicPr>
        <p:blipFill>
          <a:blip r:embed="rId1"/>
          <a:stretch/>
        </p:blipFill>
        <p:spPr>
          <a:xfrm>
            <a:off x="5181480" y="1676520"/>
            <a:ext cx="2664000" cy="347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ssumed knowledge</a:t>
            </a:r>
            <a:endParaRPr b="0" lang="en-US" sz="4400" spc="-1" strike="noStrike">
              <a:solidFill>
                <a:srgbClr val="ffffff"/>
              </a:solidFill>
              <a:latin typeface="Arial"/>
            </a:endParaRPr>
          </a:p>
        </p:txBody>
      </p:sp>
      <p:sp>
        <p:nvSpPr>
          <p:cNvPr id="1487" name=""/>
          <p:cNvSpPr txBox="1"/>
          <p:nvPr/>
        </p:nvSpPr>
        <p:spPr>
          <a:xfrm>
            <a:off x="1523520" y="2437920"/>
            <a:ext cx="7239240" cy="3581640"/>
          </a:xfrm>
          <a:prstGeom prst="rect">
            <a:avLst/>
          </a:prstGeom>
          <a:noFill/>
          <a:ln w="0">
            <a:noFill/>
          </a:ln>
        </p:spPr>
        <p:txBody>
          <a:bodyPr anchor="t">
            <a:normAutofit fontScale="92000"/>
          </a:bodyPr>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etailed understanding of the respiratory and circulatory systems.</a:t>
            </a:r>
            <a:endParaRPr b="0" lang="en-US" sz="3200" spc="-1" strike="noStrike">
              <a:solidFill>
                <a:srgbClr val="ffffff"/>
              </a:solidFill>
              <a:latin typeface="Arial"/>
            </a:endParaRPr>
          </a:p>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 thorough understanding of energy systems and anaerobic versus aerobic training.</a:t>
            </a:r>
            <a:endParaRPr b="0" lang="en-US" sz="3200" spc="-1" strike="noStrike">
              <a:solidFill>
                <a:srgbClr val="ffffff"/>
              </a:solidFill>
              <a:latin typeface="Arial"/>
            </a:endParaRPr>
          </a:p>
          <a:p>
            <a:pPr marL="315360" indent="-31536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keletal muscle structure and function</a:t>
            </a:r>
            <a:endParaRPr b="0" lang="en-US" sz="3200" spc="-1" strike="noStrike">
              <a:solidFill>
                <a:srgbClr val="ffffff"/>
              </a:solidFill>
              <a:latin typeface="Arial"/>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29"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CARDIAC OUTPUT (Q) AT MAXIMUM WORKLOA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ardiac Output (Q) is the amount of blood pumped by the heart per minu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Q remains unchanged at rest and even during sub max. work regardless of how hard you trai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ring max. exercise Q may increase up to 30 litres per minute for highly trained athle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pic>
        <p:nvPicPr>
          <p:cNvPr id="1531" name="Picture 5" descr="blood cell"/>
          <p:cNvPicPr/>
          <p:nvPr/>
        </p:nvPicPr>
        <p:blipFill>
          <a:blip r:embed="rId1"/>
          <a:stretch/>
        </p:blipFill>
        <p:spPr>
          <a:xfrm>
            <a:off x="990720" y="2133720"/>
            <a:ext cx="3419280" cy="2379600"/>
          </a:xfrm>
          <a:prstGeom prst="rect">
            <a:avLst/>
          </a:prstGeom>
          <a:ln w="0">
            <a:noFill/>
          </a:ln>
        </p:spPr>
      </p:pic>
      <p:sp>
        <p:nvSpPr>
          <p:cNvPr id="153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Q = SV x HR</a:t>
            </a:r>
            <a:endParaRPr b="0" lang="en-US" sz="80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ok at Page 252 LIU again for equations!</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OWER BLOOD PRESSU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oth systolic and diastolic blood pressure levels may decrease during REST and EXERCISE.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helps by reducing resistance to blood flow and reduces strain on the heart.</a:t>
            </a:r>
            <a:endParaRPr b="0" lang="en-US" sz="2400" spc="-1" strike="noStrike">
              <a:solidFill>
                <a:srgbClr val="000000"/>
              </a:solidFill>
              <a:latin typeface="Arial"/>
            </a:endParaRPr>
          </a:p>
        </p:txBody>
      </p:sp>
      <p:pic>
        <p:nvPicPr>
          <p:cNvPr id="1535" name="Picture 5" descr="systolic versus diastolic"/>
          <p:cNvPicPr/>
          <p:nvPr/>
        </p:nvPicPr>
        <p:blipFill>
          <a:blip r:embed="rId1"/>
          <a:stretch/>
        </p:blipFill>
        <p:spPr>
          <a:xfrm>
            <a:off x="5410080" y="1523880"/>
            <a:ext cx="3048120" cy="434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CREASED ARTERIO-VENOUS OXYGEN DIFFERENCE (a-VO2 diff)</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increased myoglobin stores and an increase in size and number of mitochondria trained individuals are able to absorb more O2 from their blood.</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VO2 diff is increased during SUB MAX and MAX exercise.  A bigger a-VO2 diff indicates greater uptake of o2 by the mus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3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CREASED BLOOD VOLUME AND HAEMOGLOBIN LEV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erobic training may lead to total blood volume increasing up to 25%, as a result RBC’s may increase in number and therefore haemoglobin content increases thus O2 carrying capacity increases also.</a:t>
            </a:r>
            <a:endParaRPr b="0" lang="en-US" sz="2400" spc="-1" strike="noStrike">
              <a:solidFill>
                <a:srgbClr val="000000"/>
              </a:solidFill>
              <a:latin typeface="Arial"/>
            </a:endParaRPr>
          </a:p>
        </p:txBody>
      </p:sp>
      <p:sp>
        <p:nvSpPr>
          <p:cNvPr id="154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CREASED CAPILLARISATION OF SKELETAL MUS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ng term aerobic training leads to increased capillarisation of the muscle, therefore more blood supply therefore more O2 can be delivered to the muscl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pic>
        <p:nvPicPr>
          <p:cNvPr id="1542" name="Picture 10" descr="skeletal muscle fibres"/>
          <p:cNvPicPr/>
          <p:nvPr/>
        </p:nvPicPr>
        <p:blipFill>
          <a:blip r:embed="rId1"/>
          <a:stretch/>
        </p:blipFill>
        <p:spPr>
          <a:xfrm>
            <a:off x="1235160" y="1600200"/>
            <a:ext cx="2482920" cy="4525920"/>
          </a:xfrm>
          <a:prstGeom prst="rect">
            <a:avLst/>
          </a:prstGeom>
          <a:ln w="0">
            <a:noFill/>
          </a:ln>
        </p:spPr>
      </p:pic>
      <p:pic>
        <p:nvPicPr>
          <p:cNvPr id="1543" name="Picture 11" descr="blood supply"/>
          <p:cNvPicPr/>
          <p:nvPr/>
        </p:nvPicPr>
        <p:blipFill>
          <a:blip r:embed="rId2"/>
          <a:stretch/>
        </p:blipFill>
        <p:spPr>
          <a:xfrm>
            <a:off x="4827600" y="1600200"/>
            <a:ext cx="3679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Century Gothic"/>
              </a:rPr>
              <a:t>Chronic adaptations to Aerobic training</a:t>
            </a:r>
            <a:br>
              <a:rPr sz="1400"/>
            </a:br>
            <a:br>
              <a:rPr sz="1400"/>
            </a:br>
            <a:r>
              <a:rPr b="0" lang="en-US" sz="3600" spc="-1" strike="noStrike">
                <a:solidFill>
                  <a:srgbClr val="1c1c1c"/>
                </a:solidFill>
                <a:latin typeface="Century Gothic"/>
              </a:rPr>
              <a:t>CARDIOVASCULAR ADAPTATIONS</a:t>
            </a:r>
            <a:endParaRPr b="0" lang="en-US" sz="3600" spc="-1" strike="noStrike">
              <a:solidFill>
                <a:srgbClr val="1c1c1c"/>
              </a:solidFill>
              <a:latin typeface="Arial"/>
            </a:endParaRPr>
          </a:p>
        </p:txBody>
      </p:sp>
      <p:sp>
        <p:nvSpPr>
          <p:cNvPr id="15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HANGES TO BLOOD CHOLESTEROL, TRIGLYCERIDES, LOW AND HIGH DENSITY LIPOPROTEIN LEVE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gular aerobic training may result in a decrease in blood cholesterol levels, triglycerides and LDL’s.  These substances are important in fighting heart diseas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lso HDL’s are thought to increase – these are the good lipoproteins and protect us against heart disease.</a:t>
            </a:r>
            <a:endParaRPr b="0" lang="en-US" sz="1800" spc="-1" strike="noStrike">
              <a:solidFill>
                <a:srgbClr val="000000"/>
              </a:solidFill>
              <a:latin typeface="Arial"/>
            </a:endParaRPr>
          </a:p>
        </p:txBody>
      </p:sp>
      <p:pic>
        <p:nvPicPr>
          <p:cNvPr id="1546" name="Picture 6" descr="cholesterol"/>
          <p:cNvPicPr/>
          <p:nvPr/>
        </p:nvPicPr>
        <p:blipFill>
          <a:blip r:embed="rId1"/>
          <a:stretch/>
        </p:blipFill>
        <p:spPr>
          <a:xfrm>
            <a:off x="5400720" y="2077920"/>
            <a:ext cx="253368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48"/>
                </a:solidFill>
                <a:latin typeface="Century Gothic"/>
              </a:rPr>
              <a:t>Chronic adaptations to Aerobic training</a:t>
            </a:r>
            <a:br>
              <a:rPr sz="1600"/>
            </a:br>
            <a:r>
              <a:rPr b="0" lang="en-US" sz="4000" spc="-1" strike="noStrike">
                <a:solidFill>
                  <a:srgbClr val="005b48"/>
                </a:solidFill>
                <a:latin typeface="Century Gothic"/>
              </a:rPr>
              <a:t>RESPIRATORY ADAPTATIONS</a:t>
            </a:r>
            <a:endParaRPr b="0" lang="en-US" sz="4000" spc="-1" strike="noStrike">
              <a:solidFill>
                <a:srgbClr val="005b48"/>
              </a:solidFill>
              <a:latin typeface="Arial"/>
            </a:endParaRPr>
          </a:p>
        </p:txBody>
      </p:sp>
      <p:pic>
        <p:nvPicPr>
          <p:cNvPr id="1548" name="Picture 5" descr="lungs picture"/>
          <p:cNvPicPr/>
          <p:nvPr/>
        </p:nvPicPr>
        <p:blipFill>
          <a:blip r:embed="rId1"/>
          <a:stretch/>
        </p:blipFill>
        <p:spPr>
          <a:xfrm>
            <a:off x="585720" y="2338560"/>
            <a:ext cx="3781440" cy="3047760"/>
          </a:xfrm>
          <a:prstGeom prst="rect">
            <a:avLst/>
          </a:prstGeom>
          <a:ln w="0">
            <a:noFill/>
          </a:ln>
        </p:spPr>
      </p:pic>
      <p:sp>
        <p:nvSpPr>
          <p:cNvPr id="154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When talking about the respiratory system we are talking about the lungs, air passages and our breathing (ventilation).</a:t>
            </a:r>
            <a:endParaRPr b="0" lang="en-US" sz="2800" spc="-1" strike="noStrike">
              <a:solidFill>
                <a:srgbClr val="005b48"/>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1" name=""/>
          <p:cNvSpPr txBox="1"/>
          <p:nvPr/>
        </p:nvSpPr>
        <p:spPr>
          <a:xfrm>
            <a:off x="685800" y="2514600"/>
            <a:ext cx="7772400" cy="3581280"/>
          </a:xfrm>
          <a:prstGeom prst="rect">
            <a:avLst/>
          </a:prstGeom>
          <a:noFill/>
          <a:ln w="0">
            <a:noFill/>
          </a:ln>
        </p:spPr>
        <p:txBody>
          <a:bodyPr anchor="t">
            <a:normAutofit fontScale="92000"/>
          </a:bodyPr>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Just as there are cardiovascular adaptations to AEROBIC training there are also respiratory adaptations.  These include:</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lung ventilation</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oxygen uptake</a:t>
            </a:r>
            <a:endParaRPr b="0" lang="en-US" sz="3200" spc="-1" strike="noStrike">
              <a:solidFill>
                <a:srgbClr val="005b48"/>
              </a:solidFill>
              <a:latin typeface="Arial"/>
            </a:endParaRPr>
          </a:p>
          <a:p>
            <a:pPr marL="315360" indent="-315360">
              <a:lnSpc>
                <a:spcPct val="100000"/>
              </a:lnSpc>
              <a:spcBef>
                <a:spcPts val="799"/>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48"/>
                </a:solidFill>
                <a:latin typeface="Century Gothic"/>
              </a:rPr>
              <a:t>Increased anaerobic or lactate threshold</a:t>
            </a:r>
            <a:endParaRPr b="0" lang="en-US" sz="32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3" name=""/>
          <p:cNvSpPr txBox="1"/>
          <p:nvPr/>
        </p:nvSpPr>
        <p:spPr>
          <a:xfrm>
            <a:off x="685800" y="2514600"/>
            <a:ext cx="7772400" cy="3581280"/>
          </a:xfrm>
          <a:prstGeom prst="rect">
            <a:avLst/>
          </a:prstGeom>
          <a:noFill/>
          <a:ln w="0">
            <a:noFill/>
          </a:ln>
        </p:spPr>
        <p:txBody>
          <a:bodyPr anchor="t">
            <a:normAutofit fontScale="95000"/>
          </a:bodyPr>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b48"/>
                </a:solidFill>
                <a:latin typeface="Century Gothic"/>
              </a:rPr>
              <a:t>INCREASED LUNG VENTILATION</a:t>
            </a:r>
            <a:endParaRPr b="0" lang="en-US" sz="2800" spc="-1" strike="noStrike">
              <a:solidFill>
                <a:srgbClr val="005b48"/>
              </a:solidFill>
              <a:latin typeface="Arial"/>
            </a:endParaRPr>
          </a:p>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erobic training results in a more efficient and improved lung ventilation.</a:t>
            </a:r>
            <a:endParaRPr b="0" lang="en-US" sz="2800" spc="-1" strike="noStrike">
              <a:solidFill>
                <a:srgbClr val="005b48"/>
              </a:solidFill>
              <a:latin typeface="Arial"/>
            </a:endParaRPr>
          </a:p>
          <a:p>
            <a:pPr marL="325800" indent="-325800">
              <a:lnSpc>
                <a:spcPct val="9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t REST and during SUB MAX. work ventilation may be decreased due to improved oxygen extraction (pulmonary diffusion), however during MAX. work ventilation is increased because of increased tidal volume and respiratory frequency.</a:t>
            </a: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hronic versus acute </a:t>
            </a:r>
            <a:endParaRPr b="0" lang="en-US" sz="4400" spc="-1" strike="noStrike">
              <a:solidFill>
                <a:srgbClr val="ffffff"/>
              </a:solidFill>
              <a:latin typeface="Arial"/>
            </a:endParaRPr>
          </a:p>
        </p:txBody>
      </p:sp>
      <p:sp>
        <p:nvSpPr>
          <p:cNvPr id="1489" name=""/>
          <p:cNvSpPr txBox="1"/>
          <p:nvPr/>
        </p:nvSpPr>
        <p:spPr>
          <a:xfrm>
            <a:off x="1447920" y="1600200"/>
            <a:ext cx="7238880" cy="3581280"/>
          </a:xfrm>
          <a:prstGeom prst="rect">
            <a:avLst/>
          </a:prstGeom>
          <a:noFill/>
          <a:ln w="0">
            <a:noFill/>
          </a:ln>
        </p:spPr>
        <p:txBody>
          <a:bodyPr anchor="t">
            <a:normAutofit fontScale="89000"/>
          </a:bodyPr>
          <a:p>
            <a:pPr marL="305280" indent="-3052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ronic changes are actually adaptations that occur as a result of long term training.  Chronic adaptations occur at both the cardio-respiratory system level and the muscle site.</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cute changes are changes that occur as a result of one off sessions – that is each time you undertake exercise acute changes can occur at the muscle site and to the cardio-respiratory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pic>
        <p:nvPicPr>
          <p:cNvPr id="1555" name="Picture 6" descr="lungs picture1"/>
          <p:cNvPicPr/>
          <p:nvPr/>
        </p:nvPicPr>
        <p:blipFill>
          <a:blip r:embed="rId1"/>
          <a:stretch/>
        </p:blipFill>
        <p:spPr>
          <a:xfrm>
            <a:off x="1219320" y="1828800"/>
            <a:ext cx="6711840" cy="383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57" name=""/>
          <p:cNvSpPr txBox="1"/>
          <p:nvPr/>
        </p:nvSpPr>
        <p:spPr>
          <a:xfrm>
            <a:off x="685800" y="2514600"/>
            <a:ext cx="7772400" cy="3581280"/>
          </a:xfrm>
          <a:prstGeom prst="rect">
            <a:avLst/>
          </a:prstGeom>
          <a:noFill/>
          <a:ln w="0">
            <a:noFill/>
          </a:ln>
        </p:spPr>
        <p:txBody>
          <a:bodyPr anchor="t">
            <a:normAutofit fontScale="84000"/>
          </a:bodyPr>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b48"/>
                </a:solidFill>
                <a:latin typeface="Century Gothic"/>
              </a:rPr>
              <a:t>INCREASED MAXIMUM OXYGEN UPTAKE (VO2 MAX)</a:t>
            </a:r>
            <a:endParaRPr b="0" lang="en-US" sz="2800" spc="-1" strike="noStrike">
              <a:solidFill>
                <a:srgbClr val="005b48"/>
              </a:solidFill>
              <a:latin typeface="Arial"/>
            </a:endParaRPr>
          </a:p>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VO2 max is improved as a result of aerobic training – it can be improved between 5 to 30 %.  (LIU page 255)</a:t>
            </a:r>
            <a:endParaRPr b="0" lang="en-US" sz="2800" spc="-1" strike="noStrike">
              <a:solidFill>
                <a:srgbClr val="005b48"/>
              </a:solidFill>
              <a:latin typeface="Arial"/>
            </a:endParaRPr>
          </a:p>
          <a:p>
            <a:pPr marL="288000" indent="-288000">
              <a:lnSpc>
                <a:spcPct val="8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Improvements are a result of:</a:t>
            </a:r>
            <a:endParaRPr b="0" lang="en-US" sz="28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	</a:t>
            </a:r>
            <a:r>
              <a:rPr b="0" lang="en-US" sz="2400" spc="-1" strike="noStrike">
                <a:solidFill>
                  <a:srgbClr val="005b48"/>
                </a:solidFill>
                <a:latin typeface="Century Gothic"/>
              </a:rPr>
              <a:t>-Increases in cardiac output</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red blood cell numbers</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a-VO2 diff </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 muscle capillarisation</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	</a:t>
            </a:r>
            <a:r>
              <a:rPr b="0" lang="en-US" sz="2400" spc="-1" strike="noStrike">
                <a:solidFill>
                  <a:srgbClr val="005b48"/>
                </a:solidFill>
                <a:latin typeface="Century Gothic"/>
              </a:rPr>
              <a:t>- greater oxygen extraction by muscles</a:t>
            </a:r>
            <a:endParaRPr b="0" lang="en-US" sz="2400" spc="-1" strike="noStrike">
              <a:solidFill>
                <a:srgbClr val="005b48"/>
              </a:solidFill>
              <a:latin typeface="Arial"/>
            </a:endParaRPr>
          </a:p>
          <a:p>
            <a:pPr marL="288000" indent="-288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b48"/>
              </a:solidFill>
              <a:latin typeface="Arial"/>
            </a:endParaRPr>
          </a:p>
          <a:p>
            <a:pPr marL="288000" indent="-288000">
              <a:lnSpc>
                <a:spcPct val="8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b48"/>
                </a:solidFill>
                <a:latin typeface="Century Gothic"/>
              </a:rPr>
              <a:t>Chronic adaptations to Aerobic training</a:t>
            </a:r>
            <a:br>
              <a:rPr sz="1600"/>
            </a:br>
            <a:r>
              <a:rPr b="0" lang="en-US" sz="4000" spc="-1" strike="noStrike">
                <a:solidFill>
                  <a:srgbClr val="005b48"/>
                </a:solidFill>
                <a:latin typeface="Century Gothic"/>
              </a:rPr>
              <a:t>RESPIRATORY ADAPTATIONS</a:t>
            </a:r>
            <a:br>
              <a:rPr sz="4000"/>
            </a:br>
            <a:r>
              <a:rPr b="0" lang="en-US" sz="4000" spc="-1" strike="noStrike">
                <a:solidFill>
                  <a:srgbClr val="005b48"/>
                </a:solidFill>
                <a:latin typeface="Century Gothic"/>
              </a:rPr>
              <a:t>VO2 MAX </a:t>
            </a:r>
            <a:endParaRPr b="0" lang="en-US" sz="4000" spc="-1" strike="noStrike">
              <a:solidFill>
                <a:srgbClr val="005b48"/>
              </a:solidFill>
              <a:latin typeface="Arial"/>
            </a:endParaRPr>
          </a:p>
        </p:txBody>
      </p:sp>
      <p:pic>
        <p:nvPicPr>
          <p:cNvPr id="1559" name="Picture 6" descr="vo2max test"/>
          <p:cNvPicPr/>
          <p:nvPr/>
        </p:nvPicPr>
        <p:blipFill>
          <a:blip r:embed="rId1"/>
          <a:stretch/>
        </p:blipFill>
        <p:spPr>
          <a:xfrm>
            <a:off x="1905120" y="1828800"/>
            <a:ext cx="5408640" cy="4056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61" name=""/>
          <p:cNvSpPr txBox="1"/>
          <p:nvPr/>
        </p:nvSpPr>
        <p:spPr>
          <a:xfrm>
            <a:off x="685800" y="2514600"/>
            <a:ext cx="7772400" cy="3581280"/>
          </a:xfrm>
          <a:prstGeom prst="rect">
            <a:avLst/>
          </a:prstGeom>
          <a:noFill/>
          <a:ln w="0">
            <a:noFill/>
          </a:ln>
        </p:spPr>
        <p:txBody>
          <a:bodyPr anchor="t">
            <a:normAutofit fontScale="86000"/>
          </a:bodyPr>
          <a:p>
            <a:pPr marL="294840" indent="-29484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b48"/>
                </a:solidFill>
                <a:latin typeface="Century Gothic"/>
              </a:rPr>
              <a:t>INCREASED ANAEROBIC OR LACTATE THRESHOLD</a:t>
            </a:r>
            <a:endParaRPr b="0" lang="en-US" sz="24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As a result of improved O2 delivery &amp; utilisation a higher lactate threshold (the point where O2 supply cannot keep up with O2 demand) is developed.</a:t>
            </a:r>
            <a:endParaRPr b="0" lang="en-US" sz="28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Much higher exercise intensities can therefore be reached and LA and H+ ion accumulation is delayed.</a:t>
            </a:r>
            <a:endParaRPr b="0" lang="en-US" sz="2800" spc="-1" strike="noStrike">
              <a:solidFill>
                <a:srgbClr val="005b48"/>
              </a:solidFill>
              <a:latin typeface="Arial"/>
            </a:endParaRPr>
          </a:p>
          <a:p>
            <a:pPr marL="294840" indent="-29484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The athlete can work harder for longer</a:t>
            </a:r>
            <a:endParaRPr b="0" lang="en-US" sz="2800" spc="-1" strike="noStrike">
              <a:solidFill>
                <a:srgbClr val="005b4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b48"/>
                </a:solidFill>
                <a:latin typeface="Century Gothic"/>
              </a:rPr>
              <a:t>Chronic adaptations to Aerobic training</a:t>
            </a:r>
            <a:br>
              <a:rPr sz="1800"/>
            </a:br>
            <a:r>
              <a:rPr b="0" lang="en-US" sz="4400" spc="-1" strike="noStrike">
                <a:solidFill>
                  <a:srgbClr val="005b48"/>
                </a:solidFill>
                <a:latin typeface="Century Gothic"/>
              </a:rPr>
              <a:t>RESPIRATORY ADAPTATIONS</a:t>
            </a:r>
            <a:endParaRPr b="0" lang="en-US" sz="4400" spc="-1" strike="noStrike">
              <a:solidFill>
                <a:srgbClr val="005b48"/>
              </a:solidFill>
              <a:latin typeface="Arial"/>
            </a:endParaRPr>
          </a:p>
        </p:txBody>
      </p:sp>
      <p:sp>
        <p:nvSpPr>
          <p:cNvPr id="15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b48"/>
                </a:solidFill>
                <a:latin typeface="Century Gothic"/>
              </a:rPr>
              <a:t>WORDS to KNOW</a:t>
            </a:r>
            <a:endParaRPr b="0" lang="en-US" sz="28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Arterio-venous oxygen difference</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Pulmonary diffusion</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Lung ventilation</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Tidal volume</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Respiratory frequency</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VO2 max</a:t>
            </a:r>
            <a:endParaRPr b="0" lang="en-US" sz="2400" spc="-1" strike="noStrike">
              <a:solidFill>
                <a:srgbClr val="005b48"/>
              </a:solidFill>
              <a:latin typeface="Arial"/>
            </a:endParaRPr>
          </a:p>
          <a:p>
            <a:pPr marL="343080" indent="-343080">
              <a:lnSpc>
                <a:spcPct val="100000"/>
              </a:lnSpc>
              <a:spcBef>
                <a:spcPts val="601"/>
              </a:spcBef>
              <a:buClr>
                <a:srgbClr val="005b4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b48"/>
                </a:solidFill>
                <a:latin typeface="Century Gothic"/>
              </a:rPr>
              <a:t>Lactate threshold</a:t>
            </a:r>
            <a:endParaRPr b="0" lang="en-US" sz="2400" spc="-1" strike="noStrike">
              <a:solidFill>
                <a:srgbClr val="005b48"/>
              </a:solidFill>
              <a:latin typeface="Arial"/>
            </a:endParaRPr>
          </a:p>
        </p:txBody>
      </p:sp>
      <p:pic>
        <p:nvPicPr>
          <p:cNvPr id="1564" name="Picture 5" descr="skier"/>
          <p:cNvPicPr/>
          <p:nvPr/>
        </p:nvPicPr>
        <p:blipFill>
          <a:blip r:embed="rId1"/>
          <a:stretch/>
        </p:blipFill>
        <p:spPr>
          <a:xfrm>
            <a:off x="5181480" y="1752480"/>
            <a:ext cx="3192480" cy="4138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entury Gothic"/>
              </a:rPr>
              <a:t>Chronic adaptations to Aerobic training</a:t>
            </a:r>
            <a:br>
              <a:rPr sz="1800"/>
            </a:br>
            <a:r>
              <a:rPr b="0" lang="en-US" sz="4400" spc="-1" strike="noStrike">
                <a:solidFill>
                  <a:srgbClr val="ffffcc"/>
                </a:solidFill>
                <a:latin typeface="Century Gothic"/>
              </a:rPr>
              <a:t>WITHIN THE MUSCLE TISSUE</a:t>
            </a:r>
            <a:endParaRPr b="0" lang="en-US" sz="4400" spc="-1" strike="noStrike">
              <a:solidFill>
                <a:srgbClr val="ffffcc"/>
              </a:solidFill>
              <a:latin typeface="Arial"/>
            </a:endParaRPr>
          </a:p>
        </p:txBody>
      </p:sp>
      <p:sp>
        <p:nvSpPr>
          <p:cNvPr id="1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ronic AEROBIC training adaptations within muscle tissue are best produced through:</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tinuous training</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igh repetition resistance training</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7" name="Picture 5" descr="skeletal muscle fibres"/>
          <p:cNvPicPr/>
          <p:nvPr/>
        </p:nvPicPr>
        <p:blipFill>
          <a:blip r:embed="rId1"/>
          <a:stretch/>
        </p:blipFill>
        <p:spPr>
          <a:xfrm>
            <a:off x="5105520" y="1447920"/>
            <a:ext cx="281916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entury Gothic"/>
              </a:rPr>
              <a:t>Chronic adaptations to Aerobic training</a:t>
            </a:r>
            <a:br>
              <a:rPr sz="1800"/>
            </a:br>
            <a:r>
              <a:rPr b="0" lang="en-US" sz="4400" spc="-1" strike="noStrike">
                <a:solidFill>
                  <a:srgbClr val="ffffcc"/>
                </a:solidFill>
                <a:latin typeface="Century Gothic"/>
              </a:rPr>
              <a:t>WITHIN THE MUSCLE TISSUE</a:t>
            </a:r>
            <a:endParaRPr b="0" lang="en-US" sz="4400" spc="-1" strike="noStrike">
              <a:solidFill>
                <a:srgbClr val="ffffcc"/>
              </a:solidFill>
              <a:latin typeface="Arial"/>
            </a:endParaRPr>
          </a:p>
        </p:txBody>
      </p:sp>
      <p:sp>
        <p:nvSpPr>
          <p:cNvPr id="15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tissue changes occu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O2 utilisation</a:t>
            </a:r>
            <a:endParaRPr b="0" lang="en-US" sz="2800" spc="-1" strike="noStrike">
              <a:solidFill>
                <a:srgbClr val="ffffff"/>
              </a:solidFill>
              <a:latin typeface="Arial"/>
            </a:endParaRPr>
          </a:p>
          <a:p>
            <a:pPr lvl="1" marL="743040" indent="-285840">
              <a:spcBef>
                <a:spcPts val="601"/>
              </a:spcBef>
              <a:buClr>
                <a:srgbClr val="ffe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2"/>
                </a:solidFill>
                <a:latin typeface="Arial"/>
              </a:rPr>
              <a:t>increased size and number of mitochondria</a:t>
            </a:r>
            <a:endParaRPr b="0" lang="en-US" sz="2400" spc="-1" strike="noStrike">
              <a:solidFill>
                <a:srgbClr val="ffffff"/>
              </a:solidFill>
              <a:latin typeface="Arial"/>
            </a:endParaRPr>
          </a:p>
          <a:p>
            <a:pPr lvl="1" marL="743040" indent="-285840">
              <a:spcBef>
                <a:spcPts val="601"/>
              </a:spcBef>
              <a:buClr>
                <a:srgbClr val="ffeb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2"/>
                </a:solidFill>
                <a:latin typeface="Arial"/>
              </a:rPr>
              <a:t>Increased myoglobin store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muscular fuel stor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oxidation of glucose and fa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d utilisation of the anaerobic glycolysis (LA) syste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cle fibre type adaptations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Chronic Training Adaptations</a:t>
            </a:r>
            <a:endParaRPr b="1" lang="en-US" sz="5400" spc="-1" strike="noStrike">
              <a:solidFill>
                <a:srgbClr val="000000"/>
              </a:solidFill>
              <a:latin typeface="Andy"/>
            </a:endParaRPr>
          </a:p>
        </p:txBody>
      </p:sp>
      <p:sp>
        <p:nvSpPr>
          <p:cNvPr id="1491" name=""/>
          <p:cNvSpPr txBox="1"/>
          <p:nvPr/>
        </p:nvSpPr>
        <p:spPr>
          <a:xfrm>
            <a:off x="457200" y="2057040"/>
            <a:ext cx="8229600" cy="480060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n we discuss chronic adaptations to training we are asssuming that training has been occurring for  a minimum of 6-8 weeks, training at least 3 sessions per week.</a:t>
            </a:r>
            <a:endParaRPr b="0" lang="en-US" sz="2800" spc="-1" strike="noStrike">
              <a:solidFill>
                <a:srgbClr val="000000"/>
              </a:solidFill>
              <a:latin typeface="Andy"/>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y is this important?  What if the athlete was training less than this?</a:t>
            </a:r>
            <a:endParaRPr b="0" lang="en-US" sz="2800" spc="-1" strike="noStrike">
              <a:solidFill>
                <a:srgbClr val="000000"/>
              </a:solidFill>
              <a:latin typeface="Andy"/>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hronic adaptations can be seen either at rest, during submaximal work or during maximal work.</a:t>
            </a:r>
            <a:endParaRPr b="0" lang="en-US" sz="2800" spc="-1" strike="noStrike">
              <a:solidFill>
                <a:srgbClr val="000000"/>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hronic Adaptations vary  depending on the following:</a:t>
            </a:r>
            <a:endParaRPr b="1" lang="en-US" sz="4000" spc="-1" strike="noStrike">
              <a:solidFill>
                <a:srgbClr val="000000"/>
              </a:solidFill>
              <a:latin typeface="Andy"/>
            </a:endParaRPr>
          </a:p>
        </p:txBody>
      </p:sp>
      <p:sp>
        <p:nvSpPr>
          <p:cNvPr id="1493" name=""/>
          <p:cNvSpPr txBox="1"/>
          <p:nvPr/>
        </p:nvSpPr>
        <p:spPr>
          <a:xfrm>
            <a:off x="457200" y="1599840"/>
            <a:ext cx="8229600" cy="48006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ype and method of training – aerobic versus anaerobic.</a:t>
            </a:r>
            <a:endParaRPr b="0" lang="en-US" sz="3200" spc="-1" strike="noStrike">
              <a:solidFill>
                <a:srgbClr val="000000"/>
              </a:solidFill>
              <a:latin typeface="Andy"/>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requency, duration and intensity of training.  </a:t>
            </a:r>
            <a:endParaRPr b="0" lang="en-US" sz="3200" spc="-1" strike="noStrike">
              <a:solidFill>
                <a:srgbClr val="000000"/>
              </a:solidFill>
              <a:latin typeface="Andy"/>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ividuals capacities – hereditary factors (your genetic make up)</a:t>
            </a:r>
            <a:endParaRPr b="0" lang="en-US" sz="3200" spc="-1" strike="noStrike">
              <a:solidFill>
                <a:srgbClr val="000000"/>
              </a:solidFill>
              <a:latin typeface="And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Century Gothic"/>
              </a:rPr>
              <a:t>Aerobic Training</a:t>
            </a:r>
            <a:endParaRPr b="0" lang="en-US" sz="4400" spc="-1" strike="noStrike">
              <a:solidFill>
                <a:srgbClr val="1c1c1c"/>
              </a:solidFill>
              <a:latin typeface="Arial"/>
            </a:endParaRPr>
          </a:p>
        </p:txBody>
      </p:sp>
      <p:sp>
        <p:nvSpPr>
          <p:cNvPr id="14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minimum period for chronic adaptations to occur is 6 week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daptations from aerobic training can occur at the muscle site and in the cardio-respiratory systems.</a:t>
            </a:r>
            <a:endParaRPr b="0" lang="en-US" sz="2800" spc="-1" strike="noStrike">
              <a:solidFill>
                <a:srgbClr val="000000"/>
              </a:solidFill>
              <a:latin typeface="Arial"/>
            </a:endParaRPr>
          </a:p>
        </p:txBody>
      </p:sp>
      <p:pic>
        <p:nvPicPr>
          <p:cNvPr id="1496" name="Picture 7" descr="heart lung picture"/>
          <p:cNvPicPr/>
          <p:nvPr/>
        </p:nvPicPr>
        <p:blipFill>
          <a:blip r:embed="rId1"/>
          <a:stretch/>
        </p:blipFill>
        <p:spPr>
          <a:xfrm>
            <a:off x="4762440" y="23385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ardio respiratory adaptations from aerobic training</a:t>
            </a:r>
            <a:endParaRPr b="0" lang="en-US" sz="4000" spc="-1" strike="noStrike">
              <a:solidFill>
                <a:srgbClr val="1c1c1c"/>
              </a:solidFill>
              <a:latin typeface="Arial"/>
            </a:endParaRPr>
          </a:p>
        </p:txBody>
      </p:sp>
      <p:sp>
        <p:nvSpPr>
          <p:cNvPr id="14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hronic cardio (heart) and respiratory (lungs) changes are easier to remember if you understand that the changes are occurring to improve the ability to carry oxygen around the body to the working musc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se changes are important and decrease your chance of developing heart disease / problems.</a:t>
            </a:r>
            <a:endParaRPr b="0" lang="en-US" sz="2000" spc="-1" strike="noStrike">
              <a:solidFill>
                <a:srgbClr val="000000"/>
              </a:solidFill>
              <a:latin typeface="Arial"/>
            </a:endParaRPr>
          </a:p>
        </p:txBody>
      </p:sp>
      <p:pic>
        <p:nvPicPr>
          <p:cNvPr id="1499" name="Picture 7" descr="left ventricle hypertrophy"/>
          <p:cNvPicPr/>
          <p:nvPr/>
        </p:nvPicPr>
        <p:blipFill>
          <a:blip r:embed="rId1"/>
          <a:stretch/>
        </p:blipFill>
        <p:spPr>
          <a:xfrm>
            <a:off x="4915080" y="1600200"/>
            <a:ext cx="3504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ardiac hypertrophy (increased ventricular volum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pillarisation of the heart muscl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stroke volume </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resting heart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heart rate during sub max workloads</a:t>
            </a:r>
            <a:endParaRPr b="0" lang="en-US" sz="3200" spc="-1" strike="noStrike">
              <a:solidFill>
                <a:srgbClr val="000000"/>
              </a:solidFill>
              <a:latin typeface="Arial"/>
            </a:endParaRPr>
          </a:p>
          <a:p>
            <a:pPr marL="339480" indent="-3394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roved heart rate recovery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Century Gothic"/>
              </a:rPr>
              <a:t>Chronic adaptations to Aerobic training</a:t>
            </a:r>
            <a:endParaRPr b="0" lang="en-US" sz="4000" spc="-1" strike="noStrike">
              <a:solidFill>
                <a:srgbClr val="1c1c1c"/>
              </a:solidFill>
              <a:latin typeface="Arial"/>
            </a:endParaRPr>
          </a:p>
        </p:txBody>
      </p:sp>
      <p:sp>
        <p:nvSpPr>
          <p:cNvPr id="15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rdiac output at max. workloads</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Lower blood pres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arterio-venous oxygen difference (a-VO2 diff)</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blood volume and haemoglobin lev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capillarisation of skeletal mus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yn Clarkson</cp:lastModifiedBy>
  <dcterms:modified xsi:type="dcterms:W3CDTF">2009-02-23T22:13:03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